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EC7-D588-4111-9338-A23F9C2D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4CF-DD86-4A2A-A664-E281108B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B24-2585-4DFC-AF20-1F32CE9F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3A5-ED8A-407F-BF8C-09E5F8E9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76F7-67D3-48DE-A92C-CE4B7768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33AB-3AB1-49C0-9E57-B2E09E6C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0AA3-56BF-410B-BB59-83D5117F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58BA-658E-4FE1-9BCD-3E5E7B6F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D469-BF0B-461C-A33E-15D02EB4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A2E3-F950-43FD-AF51-44822424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DF05-6E3F-4A4E-B2C5-9A815A1D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D98-B954-4381-948D-F3A9D9C4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C92D-EDAE-43B8-A75D-703786A0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1FEE-A933-4354-B6CC-2F5AB05F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B12B-48D9-4399-A1A7-CA5C3B9B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AC5C-1CA3-4793-8170-310AF5E0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6636-9CEF-4806-B90A-BDF50645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33E-334F-49A0-A141-0268BC3F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512-5871-4BDF-B2F4-5B1F2402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B03-85E3-498B-9171-A3C23B7E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FFB-4B08-41DA-8BED-1E093C36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F61-9DCF-46DC-A3E2-ACC66FDD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ED6-59ED-495E-958B-F4FC27F5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51D-C624-44B6-94EE-EDDC3471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D6B4-07E3-4E52-A10B-9B5A21B1C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8335-1B9F-4A0F-974C-6D09EC55C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Come Forward</a:t>
            </a:r>
            <a:br>
              <a:rPr sz="44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Grades 1-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spelling the vocabulary words with students holding the le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Come Forwar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etter tiles from mentoring mi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 has one or two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 displays a vocabulaty w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th a letter in the word “come forwar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range themselves in order from left to right with out tal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 and the class spell the word out loud to check the order for the students who are sta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Var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 the word while students arrange themselves. Display the card to check their order when they are 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efinition instead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57:35Z</dcterms:created>
  <dc:creator>Ann Weeks</dc:creator>
  <dc:description/>
  <dc:language>en-US</dc:language>
  <cp:lastModifiedBy>Ann Weeks</cp:lastModifiedBy>
  <dcterms:modified xsi:type="dcterms:W3CDTF">2008-06-29T14:29:29Z</dcterms:modified>
  <cp:revision>3</cp:revision>
  <dc:subject/>
  <dc:title>Light Up the World A vocabulary game from Mentoring Minds Grades 1-4</dc:title>
</cp:coreProperties>
</file>